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BE93-E745-442A-99C2-8ADFE53E00D6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1A81-036F-4AC2-B19B-3D565335B7BF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0D7-312A-4712-AD71-182AF581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8FB0-E9DC-47B2-BEE5-F2AAADFD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7DC-6257-4244-AF3F-318012D4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E0F-751D-402E-B834-CDCF582E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19E-540D-475E-8F84-DAC466F3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4682-F6F8-4846-919C-F536B8DC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A3A-F7E8-4BEE-90DF-89AA25D5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835-A190-476F-8B05-CB90E225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333E-B08E-492D-A16A-725FBCD4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8FB1-86BB-48E4-8999-E62C274F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E76-1940-44A2-8A89-38767AE4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0400-B735-4E92-8F4F-76C083CD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F67E-5A97-402C-8CFB-52CA327B56A5}" type="slidenum">
              <a:rPr b="0" lang="fr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429000" y="3714840"/>
            <a:ext cx="58579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Jessica Monhart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(jessica.monhart@unil.c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Camille Pitteloud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(camille.pitteloud@unil.c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Supervisé par Micha Her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tangle 4" descr=""/>
          <p:cNvPicPr/>
          <p:nvPr/>
        </p:nvPicPr>
        <p:blipFill>
          <a:blip r:embed="rId1"/>
          <a:stretch/>
        </p:blipFill>
        <p:spPr>
          <a:xfrm>
            <a:off x="719280" y="347760"/>
            <a:ext cx="7729560" cy="1305000"/>
          </a:xfrm>
          <a:prstGeom prst="rect">
            <a:avLst/>
          </a:prstGeom>
          <a:ln w="0">
            <a:noFill/>
          </a:ln>
        </p:spPr>
      </p:pic>
      <p:pic>
        <p:nvPicPr>
          <p:cNvPr id="50" name="Image 6" descr="Souris.jpg"/>
          <p:cNvPicPr/>
          <p:nvPr/>
        </p:nvPicPr>
        <p:blipFill>
          <a:blip r:embed="rId2"/>
          <a:stretch/>
        </p:blipFill>
        <p:spPr>
          <a:xfrm>
            <a:off x="785880" y="2000160"/>
            <a:ext cx="35002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2. Calcul de la matrice de covariance 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-&gt; évaluation de la relation entre les SN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matricecov&lt;-cov(t(rsnps))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&gt; matriceco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,1]    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[,2]     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   [,3]    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       [,4]              [,5]              [,6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1,]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-0.6666667 </a:t>
            </a:r>
            <a:r>
              <a:rPr b="0" lang="fr-CH" sz="1800" spc="-1" strike="noStrike">
                <a:solidFill>
                  <a:srgbClr val="0070c0"/>
                </a:solidFill>
                <a:latin typeface="Calibri"/>
              </a:rPr>
              <a:t>-1.3333333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0.6666667 </a:t>
            </a:r>
            <a:r>
              <a:rPr b="0" lang="fr-CH" sz="1800" spc="-1" strike="noStrike">
                <a:solidFill>
                  <a:srgbClr val="0070c0"/>
                </a:solidFill>
                <a:latin typeface="Calibri"/>
              </a:rPr>
              <a:t>-1.3333333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-0.666666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2,] -0.6666667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0.6666667  0.6666667  0.6666667  1.333333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3,] </a:t>
            </a:r>
            <a:r>
              <a:rPr b="0" lang="fr-CH" sz="1800" spc="-1" strike="noStrike">
                <a:solidFill>
                  <a:srgbClr val="0070c0"/>
                </a:solidFill>
                <a:latin typeface="Calibri"/>
              </a:rPr>
              <a:t>-1.3333333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0.6666667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-0.6666667  1.3333333  0.666666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4,]  0.6666667  0.6666667 -0.6666667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-0.6666667  0.666666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5,] </a:t>
            </a:r>
            <a:r>
              <a:rPr b="0" lang="fr-CH" sz="1800" spc="-1" strike="noStrike">
                <a:solidFill>
                  <a:srgbClr val="0070c0"/>
                </a:solidFill>
                <a:latin typeface="Calibri"/>
              </a:rPr>
              <a:t>-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0.6666667  1.3333333 -0.6666667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0.666666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6,] -0.6666667  1.3333333  0.6666667  0.6666667  0.6666667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Rectangle 5" descr=""/>
          <p:cNvPicPr/>
          <p:nvPr/>
        </p:nvPicPr>
        <p:blipFill>
          <a:blip r:embed="rId1"/>
          <a:stretch/>
        </p:blipFill>
        <p:spPr>
          <a:xfrm>
            <a:off x="1579680" y="244440"/>
            <a:ext cx="56196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100" spc="-1" strike="noStrike">
                <a:solidFill>
                  <a:srgbClr val="000000"/>
                </a:solidFill>
                <a:latin typeface="Calibri"/>
              </a:rPr>
              <a:t>3. Diagonalisation de C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100" spc="-1" strike="noStrike">
                <a:solidFill>
                  <a:srgbClr val="000000"/>
                </a:solidFill>
                <a:latin typeface="Calibri"/>
              </a:rPr>
              <a:t>-&gt; obtention des vecteurs et des valeurs propre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Calibri"/>
              </a:rPr>
              <a:t>eigen(matricec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Calibri"/>
              </a:rPr>
              <a:t>$values [1]  5.154701e+00  2.845299e+00  5.529209e-16  3.268086e-16 -6.352955e-1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Calibri"/>
              </a:rPr>
              <a:t>[6] -2.158371e-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Calibri"/>
              </a:rPr>
              <a:t>-Le 1</a:t>
            </a:r>
            <a:r>
              <a:rPr b="0" lang="fr-CH" sz="1600" spc="-1" strike="noStrike" baseline="30000">
                <a:solidFill>
                  <a:srgbClr val="000000"/>
                </a:solidFill>
                <a:latin typeface="Calibri"/>
              </a:rPr>
              <a:t>er</a:t>
            </a:r>
            <a:r>
              <a:rPr b="0" lang="fr-CH" sz="1600" spc="-1" strike="noStrike">
                <a:solidFill>
                  <a:srgbClr val="000000"/>
                </a:solidFill>
                <a:latin typeface="Calibri"/>
              </a:rPr>
              <a:t> vecteur propre est celui qui maximise la varian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Calibri"/>
              </a:rPr>
              <a:t>-Plus la valeur propre est grande, plus la variance est importa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Rectangle 3" descr=""/>
          <p:cNvPicPr/>
          <p:nvPr/>
        </p:nvPicPr>
        <p:blipFill>
          <a:blip r:embed="rId1"/>
          <a:stretch/>
        </p:blipFill>
        <p:spPr>
          <a:xfrm>
            <a:off x="1792440" y="317520"/>
            <a:ext cx="5619600" cy="1109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4857840" cy="25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4. Sélection de k vecteurs propres (2 ou 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-&gt; réduction du nombre de dim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5. Projection de tous les points (souche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sur le plan formé par les k vecteurs prop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Rectangle 3" descr=""/>
          <p:cNvPicPr/>
          <p:nvPr/>
        </p:nvPicPr>
        <p:blipFill>
          <a:blip r:embed="rId1"/>
          <a:stretch/>
        </p:blipFill>
        <p:spPr>
          <a:xfrm>
            <a:off x="1652760" y="176040"/>
            <a:ext cx="561960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4572000" y="3857760"/>
            <a:ext cx="3005280" cy="3000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4643280" y="1214280"/>
            <a:ext cx="29289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6) Résulta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Comparaison de 20 souch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à partir de 9 échantill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contenant chacun 120 SNP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différ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Rectangle 5" descr=""/>
          <p:cNvPicPr/>
          <p:nvPr/>
        </p:nvPicPr>
        <p:blipFill>
          <a:blip r:embed="rId1"/>
          <a:stretch/>
        </p:blipFill>
        <p:spPr>
          <a:xfrm>
            <a:off x="1865160" y="244440"/>
            <a:ext cx="5621400" cy="111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3286080" y="1357200"/>
            <a:ext cx="50086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itre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1218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Exemple de résulta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2852640" y="2143080"/>
            <a:ext cx="568656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Ordinateurs pas suffisamment puiss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Obligation de travailler avec de petits          échantillons  de SN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Echantillons moins représentati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Risque d’obtenir des résultats moins significatif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Rectangle 5" descr=""/>
          <p:cNvPicPr/>
          <p:nvPr/>
        </p:nvPicPr>
        <p:blipFill>
          <a:blip r:embed="rId1"/>
          <a:stretch/>
        </p:blipFill>
        <p:spPr>
          <a:xfrm>
            <a:off x="950760" y="103320"/>
            <a:ext cx="72295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oints positif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-  Utilisation d’un outil statistique conn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-  Organisation générale du cou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(nombre d’assistants par groupe d’étudiants, directives pour   les présent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oints négatif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-  Crédits insuffisants par rapport au nombre d’heures de travai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Rectangle 3" descr=""/>
          <p:cNvPicPr/>
          <p:nvPr/>
        </p:nvPicPr>
        <p:blipFill>
          <a:blip r:embed="rId1"/>
          <a:stretch/>
        </p:blipFill>
        <p:spPr>
          <a:xfrm>
            <a:off x="2298600" y="317520"/>
            <a:ext cx="44071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28400" y="713880"/>
            <a:ext cx="82580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1"/>
          <a:stretch/>
        </p:blipFill>
        <p:spPr>
          <a:xfrm>
            <a:off x="493560" y="798480"/>
            <a:ext cx="8479080" cy="1189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5572080" y="4429080"/>
            <a:ext cx="2928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Jessica Monhart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(jessica.monhart@unil.c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Camille Pitteloud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(camille.pitteloud@unil.c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 5" descr="sourisLaboratoire.jpg"/>
          <p:cNvPicPr/>
          <p:nvPr/>
        </p:nvPicPr>
        <p:blipFill>
          <a:blip r:embed="rId2"/>
          <a:stretch/>
        </p:blipFill>
        <p:spPr>
          <a:xfrm>
            <a:off x="642960" y="2643120"/>
            <a:ext cx="41529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2214360"/>
            <a:ext cx="822960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Intérêt du proj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éthodolo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ifficultés du proj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tangle 3" descr=""/>
          <p:cNvPicPr/>
          <p:nvPr/>
        </p:nvPicPr>
        <p:blipFill>
          <a:blip r:embed="rId1"/>
          <a:stretch/>
        </p:blipFill>
        <p:spPr>
          <a:xfrm>
            <a:off x="2389320" y="304920"/>
            <a:ext cx="4200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760" y="242856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Comparaison de souris de différentes souches sur une base de SNPs (au niveau du génome ou d’une rég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&gt; En quoi sont-elles proches ou éloignée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Rectangle 3" descr=""/>
          <p:cNvPicPr/>
          <p:nvPr/>
        </p:nvPicPr>
        <p:blipFill>
          <a:blip r:embed="rId1"/>
          <a:stretch/>
        </p:blipFill>
        <p:spPr>
          <a:xfrm>
            <a:off x="2577960" y="244440"/>
            <a:ext cx="41086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2876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b) Comparaison des résultats obtenus avec ceux de la littérature scientif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tangle 3" descr=""/>
          <p:cNvPicPr/>
          <p:nvPr/>
        </p:nvPicPr>
        <p:blipFill>
          <a:blip r:embed="rId1"/>
          <a:stretch/>
        </p:blipFill>
        <p:spPr>
          <a:xfrm>
            <a:off x="2577960" y="244440"/>
            <a:ext cx="410868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1357200" y="2643120"/>
            <a:ext cx="594036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28760" y="2142720"/>
            <a:ext cx="79293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c) Comparaison des différentes méthodes d’analy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&gt; Quels sont leurs avantages et leurs         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inconvénient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2577960" y="244440"/>
            <a:ext cx="41086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14240" y="1857240"/>
            <a:ext cx="74296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Connaître la distance génétique entre les différentes souches de souris perm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&gt; 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L’obtention de meilleurs échantillonnages     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lors d’expéri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L’élimination de variables confondantes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  géné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Rectangle 3" descr=""/>
          <p:cNvPicPr/>
          <p:nvPr/>
        </p:nvPicPr>
        <p:blipFill>
          <a:blip r:embed="rId1"/>
          <a:stretch/>
        </p:blipFill>
        <p:spPr>
          <a:xfrm>
            <a:off x="1657440" y="244440"/>
            <a:ext cx="62910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Transformation de données génétiques en données mathéma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Codage des 4 bases (A-T,C-G)  en valeurs -1,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Conversion des SNPs en vecte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-&gt; n SNPs stockés dans un vecteur = n dimen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Rectangle 4" descr=""/>
          <p:cNvPicPr/>
          <p:nvPr/>
        </p:nvPicPr>
        <p:blipFill>
          <a:blip r:embed="rId1"/>
          <a:stretch/>
        </p:blipFill>
        <p:spPr>
          <a:xfrm>
            <a:off x="1603440" y="176040"/>
            <a:ext cx="561960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Analyse en composantes principales (P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Méthode permettant de réduire le nombre de dimen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Utile car représenter graphiquement les différentes souches (vecteurs) contenant plusieurs SNPs (dimensions) est im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-&gt; réduction des données en 2D (voire 3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Rectangle 3" descr=""/>
          <p:cNvPicPr/>
          <p:nvPr/>
        </p:nvPicPr>
        <p:blipFill>
          <a:blip r:embed="rId1"/>
          <a:stretch/>
        </p:blipFill>
        <p:spPr>
          <a:xfrm>
            <a:off x="1390680" y="176040"/>
            <a:ext cx="5619600" cy="1109880"/>
          </a:xfrm>
          <a:prstGeom prst="rect">
            <a:avLst/>
          </a:prstGeom>
          <a:ln w="0">
            <a:noFill/>
          </a:ln>
        </p:spPr>
      </p:pic>
      <p:pic>
        <p:nvPicPr>
          <p:cNvPr id="66" name="Image 4" descr="imagesCAOKXBDC.jpg"/>
          <p:cNvPicPr/>
          <p:nvPr/>
        </p:nvPicPr>
        <p:blipFill>
          <a:blip r:embed="rId2"/>
          <a:stretch/>
        </p:blipFill>
        <p:spPr>
          <a:xfrm>
            <a:off x="7286760" y="357120"/>
            <a:ext cx="11239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700" spc="-1" strike="noStrike">
                <a:solidFill>
                  <a:srgbClr val="000000"/>
                </a:solidFill>
                <a:latin typeface="Calibri"/>
              </a:rPr>
              <a:t>Marche à suivr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Sélection des SNPs et des souches à compar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rsn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X.1 X1.5 X1.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1,]  -1   -1   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2,]  -1    1   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3,]   1    1   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4,]  -1    1   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5,]   1    1   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6,]  -1    1   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Rectangle 3" descr=""/>
          <p:cNvPicPr/>
          <p:nvPr/>
        </p:nvPicPr>
        <p:blipFill>
          <a:blip r:embed="rId1"/>
          <a:stretch/>
        </p:blipFill>
        <p:spPr>
          <a:xfrm>
            <a:off x="1536840" y="176040"/>
            <a:ext cx="561960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9:14:12Z</dcterms:created>
  <dc:creator>Camille</dc:creator>
  <dc:description/>
  <dc:language>en-US</dc:language>
  <cp:lastModifiedBy>Jess</cp:lastModifiedBy>
  <dcterms:modified xsi:type="dcterms:W3CDTF">2010-04-14T11:51:08Z</dcterms:modified>
  <cp:revision>65</cp:revision>
  <dc:subject/>
  <dc:title>Diapositive 1</dc:title>
</cp:coreProperties>
</file>